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A02-577E-4094-8558-9688E58B439F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5651640" y="3141720"/>
            <a:ext cx="3744720" cy="3743280"/>
          </a:xfrm>
          <a:prstGeom prst="rect">
            <a:avLst/>
          </a:prstGeom>
          <a:blipFill rotWithShape="0">
            <a:blip r:embed="rId2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3"/>
          <a:stretch/>
        </p:blipFill>
        <p:spPr>
          <a:xfrm>
            <a:off x="282600" y="7920"/>
            <a:ext cx="904680" cy="90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43F-E6B1-4025-BB82-E1EB9FA84AA8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F50-AA46-4559-AAAF-ACC6F72F4DD6}" type="datetime"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4572000" y="1052640"/>
            <a:ext cx="0" cy="53481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0A0-8759-4841-AB33-A08FCA0FCDD6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774880" y="1052640"/>
            <a:ext cx="0" cy="531792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2F3-583E-4471-943F-3D56846C63CB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5254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CEA-4EDF-4FB7-A739-DB4368049FD1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9B2A-344C-45DD-92F5-550E5F9A2B1A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04:54:03Z</dcterms:created>
  <dc:creator>Quanquan</dc:creator>
  <dc:description/>
  <dc:language>en-US</dc:language>
  <cp:lastModifiedBy>Haidong Chen</cp:lastModifiedBy>
  <dcterms:modified xsi:type="dcterms:W3CDTF">2012-05-03T09:13:50Z</dcterms:modified>
  <cp:revision>37</cp:revision>
  <dc:subject/>
  <dc:title>PowerPoint 演示文稿</dc:title>
</cp:coreProperties>
</file>